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3DB1-A4C4-4A93-848C-7124B6637078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- Θέση αριθμού διαφάνειας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42CD-CCA4-49E0-AD75-02214545DF7A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3 - Θέση αριθμού διαφάνειας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7253-B67C-49B3-8671-BA82B592D8ED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3 - Θέση αριθμού διαφάνειας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7FCB-8E0A-48BD-9C1E-E1CA86CE3B0D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- Θέση αριθμού διαφάνειας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1CAB-7543-4EFE-85BA-9D165C36C7E0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3 - Θέση αριθμού διαφάνειας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A11E-BBB0-4449-80C1-07B00F9DCBDA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3 - Θέση αριθμού διαφάνειας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0A4D-303B-4261-B22F-9F2C841D05E5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3 - Θέση αριθμού διαφάνειας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4453-61E9-4C71-A975-C14947495D99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3 - Θέση αριθμού διαφάνειας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618C-87D5-4DD0-957F-F51890C61D9E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- Θέση αριθμού διαφάνειας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32BD-4CBE-4277-B7F8-F5C9F9D99470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- Θέση αριθμού διαφάνειας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18BB-753C-43F2-9D36-41582971EE35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- Θέση αριθμού διαφάνειας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CA1B-47E6-4EB1-8352-BBFA1A26B254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- Θέση αριθμού διαφάνειας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8D68-084C-42BB-8C44-66BC4D9BE904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- Θέση αριθμού διαφάνειας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7A43-682C-43CF-B403-19A3589C34EF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- Θέση αριθμού διαφάνειας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4E02-839C-4BBE-8913-451B98850BB8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3 - Θέση αριθμού διαφάνειας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75DB-E91C-4153-A7D6-0B549F5ED88C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EDA2-DE8A-4B15-8029-5611036DC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A936-A454-4CC4-B4A8-539DAF7C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3846-1681-41B6-B56E-7E00BC252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69B8-23C7-4700-9596-CA3FC36D0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8676-120D-4D1C-BF27-3BB505E49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94BB-C4F4-4E36-87B2-948E8306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2D25-8AED-4DF5-A4D5-F6BF151F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C4B7-97E2-4166-B90F-8F181D2A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DB4A-5FC3-4791-83E0-6CCF2A87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4B89C-48B3-433A-AFE4-41553B36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810E-F551-44ED-87E5-EDD85559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FAD2-6DAC-491E-B48C-67046F36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F8C2-218B-4A44-8526-5E788814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430B-34A0-4BE1-BF32-C7AC986B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E09D-1AD5-40E3-AB75-FD2A74B0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EA0F-3055-4396-81BA-3F90EE0EC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365B-01C1-48D7-AB6D-A24AC2EFB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6397-1907-4F88-9FC4-4BEC8D8A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3AF3-55B3-4BC2-8B91-E9587E00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4B81-347C-4B6D-BFF0-751366DF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89C0-CE0B-4F47-806A-D0B7AC82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2D45-A962-4EBD-B4BB-F12ED438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2457-7E3C-4606-8FE6-BD8C1020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E53E-F5C6-4E6D-936E-ED92F265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E35E-7341-42FF-A9C7-6695B238C5B2}" type="slidenum">
              <a:rPr b="0" lang="el-G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52"/>
          <p:cNvSpPr/>
          <p:nvPr/>
        </p:nvSpPr>
        <p:spPr>
          <a:xfrm>
            <a:off x="-36360" y="907920"/>
            <a:ext cx="9144000" cy="0"/>
          </a:xfrm>
          <a:prstGeom prst="line">
            <a:avLst/>
          </a:prstGeom>
          <a:ln w="63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52"/>
          <p:cNvSpPr/>
          <p:nvPr/>
        </p:nvSpPr>
        <p:spPr>
          <a:xfrm>
            <a:off x="-36360" y="907920"/>
            <a:ext cx="9144000" cy="0"/>
          </a:xfrm>
          <a:prstGeom prst="line">
            <a:avLst/>
          </a:prstGeom>
          <a:ln w="63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C:\Users\Pytheas\Desktop\Working stuff\CerOrganic\logo-tr.gif"/>
          <p:cNvPicPr/>
          <p:nvPr/>
        </p:nvPicPr>
        <p:blipFill>
          <a:blip r:embed="rId2"/>
          <a:stretch/>
        </p:blipFill>
        <p:spPr>
          <a:xfrm>
            <a:off x="7026120" y="27000"/>
            <a:ext cx="2076480" cy="863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LLP-logo.jpg"/>
          <p:cNvPicPr/>
          <p:nvPr/>
        </p:nvPicPr>
        <p:blipFill>
          <a:blip r:embed="rId3"/>
          <a:stretch/>
        </p:blipFill>
        <p:spPr>
          <a:xfrm>
            <a:off x="0" y="189000"/>
            <a:ext cx="1857240" cy="650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FAD2-1FE6-4D3A-8922-213A1374A57D}" type="slidenum">
              <a:rPr b="0" lang="el-G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erOrganic Training Curricul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2 - Θέση περιεχομένου"/>
          <p:cNvSpPr/>
          <p:nvPr/>
        </p:nvSpPr>
        <p:spPr>
          <a:xfrm>
            <a:off x="826920" y="4786200"/>
            <a:ext cx="749808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04387-LLP-1-2009-1-GR-LEONARDO-L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-funded by the European Un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rough the Leonardo da Vinci Pr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1 - Τίτλος"/>
          <p:cNvSpPr/>
          <p:nvPr/>
        </p:nvSpPr>
        <p:spPr>
          <a:xfrm>
            <a:off x="468360" y="23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Module CXX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56800" y="3500280"/>
            <a:ext cx="74977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Calibri"/>
              </a:rPr>
              <a:t>Unit CXXX.X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4296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3. Conclus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5000760" y="6488280"/>
            <a:ext cx="41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CXXX, Unit CXXX.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071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3.i.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71680" y="2643120"/>
            <a:ext cx="84247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ease provide a summary in bullet points of the most important themes of the un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5286240" y="6500880"/>
            <a:ext cx="38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CXXX, Unit CXXX.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3.ii. 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71680" y="1643040"/>
            <a:ext cx="8424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sic bibliograp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ease provide details of mandatory reference material that is provided  or available from open 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mplementary bibliograph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ease provide details of non-compulsary  reading mater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b pages / lin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ease provide links to relevant / interesting web p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5214960" y="648828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CXXX, Unit CXXX.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3.iii. Evaluation of Lear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8360" y="1714320"/>
            <a:ext cx="842472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is unit contributes to Assignment X (X = 1 or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lease provide any means for the assessment of learning, provided for use during this unit.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4786200" y="6500880"/>
            <a:ext cx="43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CXXX, Unit CXXX.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’s Nex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213336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ease indicate any connec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following un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4786200" y="6500880"/>
            <a:ext cx="43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CXXX, Unit CXXX.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179280" y="243036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 more information on unit CXXX.X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0" y="371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please provide a contact email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5143680" y="6488280"/>
            <a:ext cx="40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CXXX, Unit CXXX.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tructur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28400" y="1500120"/>
            <a:ext cx="82803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00000" indent="-5000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utor in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00000" indent="-5000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ims &amp; objecti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00000" indent="-5000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Learning outcomes &amp; skil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00000" indent="-5000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ethodology &amp; med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00000" indent="-500040" algn="just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Main P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00000" indent="-50004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.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00000" indent="-50004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i.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es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00000" indent="-5000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00000" indent="-5000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00000" indent="-5000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valuation of lear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34920" y="6505560"/>
            <a:ext cx="30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t CXXX.X,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6048360" y="6505560"/>
            <a:ext cx="30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tor name, Organis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.i. Tutor in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1197000"/>
            <a:ext cx="8424720" cy="52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ease include a short CV, focusing on experience, skills and competences related to the un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4000680" y="6488280"/>
            <a:ext cx="51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CXXX, Unit CXXX.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.ii. Aims &amp;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8360" y="119664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ease describe the aims &amp; objectives of this unit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described in the unit descri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5572080" y="64882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CXXX, Unit CXXX.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.iii. Learning outcomes &amp; ski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119664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ease describe learning outcomes &amp; skill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described in the unit descri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5429160" y="650088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CXXX, Unit CXXX.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.iv. Methodology &amp; med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360" y="119664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ease describe the methodology and contents of the unit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described in the unit descri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4786200" y="6488280"/>
            <a:ext cx="43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CXXX, Unit CXXX.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296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2. Main par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5000760" y="6488280"/>
            <a:ext cx="41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CXXX, Unit CXXX.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071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.i. 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71680" y="2643120"/>
            <a:ext cx="84247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ease provide a glossary of any unfamiliar terms introduced in this un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4929120" y="64882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CXXX, Unit CXXX.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.ii. Present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ease insert the slides of you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t presentation he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4643280" y="650088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CXXX, Unit CXXX.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18:35:36Z</dcterms:created>
  <dc:creator>ΜΠΑΜΠΗΣ</dc:creator>
  <dc:description/>
  <dc:language>en-US</dc:language>
  <cp:lastModifiedBy>koubouris</cp:lastModifiedBy>
  <dcterms:modified xsi:type="dcterms:W3CDTF">2011-03-31T11:39:57Z</dcterms:modified>
  <cp:revision>114</cp:revision>
  <dc:subject/>
  <dc:title>Organic.BalkaNet</dc:title>
</cp:coreProperties>
</file>